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048-DC0C-4C96-9B87-97F801D2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89B-6B49-4076-ADBE-143299AF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DA0-DEBC-4F69-8F1B-2B9F1AB5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AEB-D0B1-4FC4-93F8-9076673E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932-9F21-4DC1-B35C-DAB8E572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169-8AD3-4C7B-B343-16162C2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A0A-ECE8-4DFA-BE9F-E184EF2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023-DA90-47E1-B6E9-A7C9023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C32-955B-4FB1-8A22-8C74F5AA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C4B-96DC-47A3-BABE-4FC3680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1BF-C390-4FCA-8FF8-B00832C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AD4-C8CE-44DD-9FF1-703CE1D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8D0-97B4-466F-A24F-AD7597920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5:30Z</dcterms:modified>
  <cp:revision>7</cp:revision>
  <dc:subject/>
  <dc:title>Slide 1</dc:title>
</cp:coreProperties>
</file>