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7D712-6539-479D-BBAE-99071781C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08D96-145E-4682-A17F-94056D02F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C2F82-02AA-41D2-94C9-E217FE0C9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FD6A2-C80C-4201-B14F-332321B43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EFA73-02AB-467C-9CDF-0FB33B11D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DE6C3-8F3D-4329-B451-EA27DB005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40544-B97F-4F38-A3AF-47AB9D0DC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0307B-353A-44BD-ADEA-9E9480305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71707-B300-4E4B-AE33-AA853322A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467BD-3B7D-4DED-96A8-74197F213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39626-F513-4D47-AF7B-2853BB05F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5DC3E-470D-4031-A0BD-D8B45DC70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7A22F-AF09-40F9-906A-6E25D64214E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3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28T00:39:48Z</dcterms:created>
  <dc:creator> </dc:creator>
  <dc:description/>
  <dc:language>en-US</dc:language>
  <cp:lastModifiedBy> </cp:lastModifiedBy>
  <dcterms:modified xsi:type="dcterms:W3CDTF">2007-12-28T00:44:37Z</dcterms:modified>
  <cp:revision>6</cp:revision>
  <dc:subject/>
  <dc:title>Slide 1</dc:title>
</cp:coreProperties>
</file>