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799C-5D4C-49AB-8330-8B7E5BD6E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D221-099F-4BC4-AD7B-38A1684C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1B55-04A3-4C02-85D3-B47820EC4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F64C-42A1-4079-8FEE-96BA6D40E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7BE6-56D6-47AA-ABA6-E4E26072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10DD-7C83-4A53-97D5-112B254D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245D-D34F-4B99-8B10-BFB244DB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3942-86EE-4065-B100-62ADDEE0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246E-5500-4C9F-8093-A85C5B67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08F6-50EF-40DF-B64B-2BE0E2C0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16B5-9E85-4B30-8B8C-34CB5715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0517-1E24-48CC-BB8D-BC09B47B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B513-D7E6-499F-B08B-16532EC533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4000" y="1134720"/>
            <a:ext cx="9036000" cy="57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01SMN"/>
              </a:rPr>
              <a:t>e\3 3 e3.\5 e w()2.t\5 5 t5.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01SMN"/>
              </a:rPr>
              <a:t>当  称 谢 进入    祂 的 门，  当  称 谢 进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01SMN"/>
              </a:rPr>
              <a:t>! y t()5.t\! ! Q!(+.+\)Q p Qo A #/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01SMN"/>
              </a:rPr>
              <a:t>祂 的 门，  当  赞 美 进入          祂  的 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074"/>
          <p:cNvSpPr/>
          <p:nvPr/>
        </p:nvSpPr>
        <p:spPr>
          <a:xfrm>
            <a:off x="2944800" y="328680"/>
            <a:ext cx="325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大黑简体"/>
              </a:rPr>
              <a:t>当称谢进入祂的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075"/>
          <p:cNvSpPr/>
          <p:nvPr/>
        </p:nvSpPr>
        <p:spPr>
          <a:xfrm>
            <a:off x="7524720" y="328680"/>
            <a:ext cx="10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普颂</a:t>
            </a:r>
            <a:r>
              <a:rPr b="1" lang="en-US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6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076"/>
          <p:cNvSpPr/>
          <p:nvPr/>
        </p:nvSpPr>
        <p:spPr>
          <a:xfrm>
            <a:off x="490680" y="3286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6T10:49:19Z</dcterms:created>
  <dc:creator>ChaiYiing</dc:creator>
  <dc:description/>
  <dc:language>en-US</dc:language>
  <cp:lastModifiedBy>tony</cp:lastModifiedBy>
  <dcterms:modified xsi:type="dcterms:W3CDTF">2019-06-28T08:32:42Z</dcterms:modified>
  <cp:revision>181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8641</vt:lpwstr>
  </property>
</Properties>
</file>