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F0A1-E48C-480C-B0A0-E421BEE02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3DA9-5AA9-4DD1-9B6C-4DA9465E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6DB9-5B67-4DE6-A521-0366DE232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D313-D4E9-4CDD-A781-4F2CA1B6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91BE-48DE-4279-B88B-76EB91CB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6112-04AF-4D47-B963-5DFAFB07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C0FC-787E-44C9-9A4D-E086FFEE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8934-77AC-4A95-BCF1-1A6687DB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6C33-948B-4D94-BA95-24E0BAEA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0724-28F9-4BFA-9F32-B0AA77CF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24BF-662F-4620-B954-3D1DADB0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5EE6-C9A7-44A8-A391-F2163C23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84AA-368A-41C1-9D21-6CA62B403B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4000" y="1134720"/>
            <a:ext cx="9036000" cy="57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3/2/\1//1\4 e e 2 1\3.e2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耶  和    华    啊，凭 你 的 公 义  引  领我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/32\1/22\3322\1//`\5/43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使  你的  道  路在  我面前正  直。      因  为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6/5/\5314\3 / 2  2\5/6()7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有  袮，  只有袮耶  和    华，能  使  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!/2(+ +e)r\3(+/)2/\1///|1///\1///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安  然       居        住。      阿        们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074"/>
          <p:cNvSpPr/>
          <p:nvPr/>
        </p:nvSpPr>
        <p:spPr>
          <a:xfrm>
            <a:off x="2944800" y="328680"/>
            <a:ext cx="32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求主引领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6T10:49:19Z</dcterms:created>
  <dc:creator>ChaiYiing</dc:creator>
  <dc:description/>
  <dc:language>en-US</dc:language>
  <cp:lastModifiedBy>tony</cp:lastModifiedBy>
  <dcterms:modified xsi:type="dcterms:W3CDTF">2019-06-28T08:39:47Z</dcterms:modified>
  <cp:revision>182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8641</vt:lpwstr>
  </property>
</Properties>
</file>