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4B55-50C6-43A0-8477-E199FE8D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7623-3408-42A6-BBA3-E6B5FEA7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865-51D9-4020-960E-1A784E38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A320-7916-46A5-A32B-BE6BF93D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F15D-5EB8-44F6-B729-B64C7FF2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3F0D-CF68-4249-B3F4-4E1765D1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EFBD-8ADA-460C-9F5B-EAEF9CAF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E73B-3C6D-42C2-9C62-0C19EE63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1C1A-3DBA-4E03-8CEF-ED4540F5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AB62-464E-4AD5-8744-B48E5D70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4F14-5E35-44A1-8AC4-280C9C0F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F066-0F5C-4DED-97EC-DCD03CD2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A2A1-F210-4118-9ADE-0A643D46FD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4000" y="1134720"/>
            <a:ext cx="903600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1/168\1//111\21178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日  复一  日，  主啊我  祈求三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1//1\1/2349053/\1/2349053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事：  愿  更  清楚见  你，  更  深切爱  你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5/369053901\3///\21/78\1//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更紧  密跟  随    你，      日复  一  日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1/1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阿  们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074"/>
          <p:cNvSpPr/>
          <p:nvPr/>
        </p:nvSpPr>
        <p:spPr>
          <a:xfrm>
            <a:off x="2944800" y="32868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三愿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10:49:19Z</dcterms:created>
  <dc:creator>ChaiYiing</dc:creator>
  <dc:description/>
  <dc:language>en-US</dc:language>
  <cp:lastModifiedBy>tony</cp:lastModifiedBy>
  <dcterms:modified xsi:type="dcterms:W3CDTF">2019-06-28T08:43:04Z</dcterms:modified>
  <cp:revision>18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