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8F8-A6C8-4993-BDE0-A1B2C60AF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9C35-723D-42DA-8B77-1CAAF74E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20B1-9E28-4EC0-B770-98EBB7CA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E04-A4BF-4F96-BEC5-B4F13B04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E51-D7C9-463F-96B9-AD7B2E2A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AC19-E27F-4143-83D5-1E675D8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AF48-E8A1-4CA2-BECD-7CBF6439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E3F-1CA1-44DC-B6CA-4BD69B16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6A5-DA16-476F-8E8E-497F288E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5B7B-5463-4938-AB2D-821B9964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5CD-F189-4149-ACFE-AB40DEB2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868-3481-4518-BA69-5731BDC2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72F3-9C22-469B-9A99-E3A90D2A91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632a.JPG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632b.JPG"/>
          <p:cNvPicPr/>
          <p:nvPr/>
        </p:nvPicPr>
        <p:blipFill>
          <a:blip r:embed="rId1"/>
          <a:stretch/>
        </p:blipFill>
        <p:spPr>
          <a:xfrm>
            <a:off x="685800" y="228600"/>
            <a:ext cx="78487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632c.JPG"/>
          <p:cNvPicPr/>
          <p:nvPr/>
        </p:nvPicPr>
        <p:blipFill>
          <a:blip r:embed="rId1"/>
          <a:stretch/>
        </p:blipFill>
        <p:spPr>
          <a:xfrm>
            <a:off x="533520" y="304920"/>
            <a:ext cx="815328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6:21:16Z</dcterms:created>
  <dc:creator>celester</dc:creator>
  <dc:description/>
  <dc:language>en-US</dc:language>
  <cp:lastModifiedBy>Ing Ming Loh</cp:lastModifiedBy>
  <dcterms:modified xsi:type="dcterms:W3CDTF">2018-10-19T02:13:49Z</dcterms:modified>
  <cp:revision>1</cp:revision>
  <dc:subject/>
  <dc:title>PowerPoint Presentation</dc:title>
</cp:coreProperties>
</file>