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F5C-A5C5-4BB5-AB86-74DBDA2F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D34-B484-4022-B971-0E84219B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DC78-D1AC-4580-98A3-9D13844B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D213-AA54-46E8-A821-3D963252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438D-78F2-4D64-98E5-672279D4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07DB-AD7F-485C-A054-1087DCAF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0A3-EB97-4547-98FC-D726FE70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B75F-8F64-4FD2-B0AF-F498118E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C8C4-72F1-4A02-8509-13946AD8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D0B-4F30-4187-9CB1-6CB05D13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FEB2-46A6-44CC-BFE5-71914487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283E-9894-48AD-AA37-6BF5A564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99EF-F6DA-47F2-9E75-3AA712732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ChaiYiing\Desktop\JPG pu song\pu song 633 copy.jpg"/>
          <p:cNvPicPr/>
          <p:nvPr/>
        </p:nvPicPr>
        <p:blipFill>
          <a:blip r:embed="rId1"/>
          <a:stretch/>
        </p:blipFill>
        <p:spPr>
          <a:xfrm>
            <a:off x="703440" y="23796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6:23:59Z</dcterms:created>
  <dc:creator>celester</dc:creator>
  <dc:description/>
  <dc:language>en-US</dc:language>
  <cp:lastModifiedBy>Ing Ming Loh</cp:lastModifiedBy>
  <dcterms:modified xsi:type="dcterms:W3CDTF">2018-10-19T02:14:54Z</dcterms:modified>
  <cp:revision>1</cp:revision>
  <dc:subject/>
  <dc:title>PowerPoint Presentation</dc:title>
</cp:coreProperties>
</file>