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1D8D-FD20-4ADC-B3FC-286DF487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A522-4558-42D5-8009-9FAEC428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17EE-0049-401F-B531-640359469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0908-AF7D-41A6-8B42-D936CABD5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A3D1-11BA-460A-847B-3D8F1E56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C4EA-2A26-46F4-9A17-CCE5C95A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A55E-6B3D-4D97-820E-B2E7FCBB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58ED-CC63-4EE7-A0A2-4FC2C610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9FFF-1B16-4BE0-8E98-3E0446B3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ABB0-C64F-4F5A-93AC-C4CEE5F7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9C5B-A9EE-43C3-9ACB-B789267A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7DBD-89C3-49D5-A2FA-A6C8CA78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A51E-4F97-4CF2-9B72-1098D9001C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0:39:48Z</dcterms:created>
  <dc:creator> </dc:creator>
  <dc:description/>
  <dc:language>en-US</dc:language>
  <cp:lastModifiedBy> </cp:lastModifiedBy>
  <dcterms:modified xsi:type="dcterms:W3CDTF">2007-12-28T00:42:59Z</dcterms:modified>
  <cp:revision>5</cp:revision>
  <dc:subject/>
  <dc:title>Slide 1</dc:title>
</cp:coreProperties>
</file>