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737B-016C-4F74-9829-ACA9FE7C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911A-C66F-4EF5-9604-6F766E02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94C-67D3-468F-8879-2265DFDC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8385-88AB-4AED-8CC9-4C118020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7F3E-DC04-4237-B720-11E13D37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358-1EA8-4098-AB22-8F9E7AC8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C2B-7157-42DA-867B-DCE56AC3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5FF-F596-4C91-A3A9-95C6BFBB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E3E8-A8A7-47B1-AE10-A133E30D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0D2-4DEE-4864-A964-E2BFA630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BE5-4C7B-4656-9F46-94F655F4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DBA7-2DF2-4722-8E0F-E5C974D5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7540-FB60-458B-B774-96DEDE2917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4000" y="1134720"/>
            <a:ext cx="903600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1///\1(+/)2/\3///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愿我口中  言        语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///\2/1/\4(+/)3/\2///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心        里  的    意        念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2///\2/3/\4///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在你面前  蒙  悦    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6  /  /  /\5/1/\3/2/\1///|</a:t>
            </a:r>
            <a:r>
              <a:rPr b="0" lang="en-US" sz="1900" spc="-1" strike="noStrike">
                <a:solidFill>
                  <a:srgbClr val="000000"/>
                </a:solidFill>
                <a:latin typeface="01SMN"/>
              </a:rPr>
              <a:t>1/1/|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耶和华我的磐石，我  的    救  赎    主。      </a:t>
            </a:r>
            <a:r>
              <a:rPr b="0" lang="zh-CN" sz="1900" spc="-1" strike="noStrike">
                <a:solidFill>
                  <a:srgbClr val="000000"/>
                </a:solidFill>
                <a:latin typeface="01SMN"/>
              </a:rPr>
              <a:t>阿  们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074"/>
          <p:cNvSpPr/>
          <p:nvPr/>
        </p:nvSpPr>
        <p:spPr>
          <a:xfrm>
            <a:off x="2944800" y="32868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愿我口中的言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7-01T00:18:40Z</dcterms:modified>
  <cp:revision>18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