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41F6-33BB-481B-9068-8EA36C92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4ECE-032A-4E5B-802F-338193C8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6E43-DD62-41A0-A77D-E7494809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0B42-BC2F-44B8-8958-75257A84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0931-0A60-4776-B969-D585A432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44CD-1DBC-421A-B596-371D7857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91CA-545C-4D1A-82F1-DD7211FC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E788-55BB-4323-B865-F1517301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14C4-BBBE-4D4A-818D-6C8D13CB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12DA-45A7-421F-A5BA-9E1C3A22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F3DC-9791-4DBB-B255-7A8440F4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A1DE-5A6E-43C1-AC9D-11E35E7C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5566-032E-4B2D-825A-20AB73F744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4000" y="1134720"/>
            <a:ext cx="903600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 /  /  /  \6()53()w w\3///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上帝所要的祭就是，忧  伤的 灵。上帝啊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1  /  /  /  \2532\1//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忧伤痛悔的心，    你必不轻  看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074"/>
          <p:cNvSpPr/>
          <p:nvPr/>
        </p:nvSpPr>
        <p:spPr>
          <a:xfrm>
            <a:off x="2944800" y="32868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上帝所要的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10:49:19Z</dcterms:created>
  <dc:creator>ChaiYiing</dc:creator>
  <dc:description/>
  <dc:language>en-US</dc:language>
  <cp:lastModifiedBy>tony</cp:lastModifiedBy>
  <dcterms:modified xsi:type="dcterms:W3CDTF">2019-07-01T00:22:49Z</dcterms:modified>
  <cp:revision>18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