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102475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9B6E9-E80D-49AB-9698-50AB48AC8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E1539-06C8-4055-9C17-F60537530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CF112-5A91-416F-A6E7-94183857F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26FAA-3D35-40AC-826E-DD80C6EEF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13BA7-FD61-46B2-9459-1802FDD88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BB691-822B-411A-9163-4E34D1399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927EF-6593-4564-9B80-46A856EC4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5E836-EEA0-434E-BDED-E0D56F0AF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A1612-4614-4D75-B320-19CFEFAF6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EED30-6475-450A-A2FA-0B878657D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1D474-4003-47EF-A4B9-9B2C9F44F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0BFBB-C581-44C3-BB2E-E56D64246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FC361-A8FA-40AB-9736-C5A72753200E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88DD9-CCCA-4274-A58F-D58771E28D9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3" descr="pu song 637 copy"/>
          <p:cNvPicPr/>
          <p:nvPr/>
        </p:nvPicPr>
        <p:blipFill>
          <a:blip r:embed="rId1"/>
          <a:srcRect l="0" t="3755" r="320" b="377"/>
          <a:stretch/>
        </p:blipFill>
        <p:spPr>
          <a:xfrm>
            <a:off x="1440" y="9360"/>
            <a:ext cx="9101160" cy="676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1-05T03:24:51Z</dcterms:created>
  <dc:creator>Kenny</dc:creator>
  <dc:description/>
  <dc:language>en-US</dc:language>
  <cp:lastModifiedBy>Kenny</cp:lastModifiedBy>
  <dcterms:modified xsi:type="dcterms:W3CDTF">2018-01-05T03:30:00Z</dcterms:modified>
  <cp:revision>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023</vt:lpwstr>
  </property>
</Properties>
</file>