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A3B-CFAE-403B-9F30-09B9F2DF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D7C-B1BE-4C6D-90CF-92277DB1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E82-2477-409B-94ED-393B0C07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EBD-B8DA-4761-ACE8-127D98EB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2F3-BD5F-4F35-8723-3AD115C0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49F-D4FA-45EC-BEA6-4FC78B98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4C8-229F-4D51-9E88-08254741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C55-545C-4902-B137-D5DEDEA4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9CC-785A-4F92-86FF-80A91396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2AE-CA6E-45C6-9709-7D5D00C0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66F-501B-414A-A691-D6295428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73F-E244-4F12-84EF-B35D5FC4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FD9B-EF43-4FF5-9B15-8755BA2C1C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851040"/>
            <a:ext cx="9036000" cy="59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01SMN"/>
              </a:rPr>
              <a:t>（第一诫至第九诫后唱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/  /  /\5 / 3 /\2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求主怜悯我们，  感动我们的   心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4  /  /  /\3 / 2(_ )1\1(+/)78\1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使我们能够      守    着     诫      命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01SMN"/>
              </a:rPr>
              <a:t>（第十诫后唱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  /    /    /\5 / 3 /\2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恳求主怜悯我们，将这  一切圣诫     命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4  /  /  /\3 / 2(_ )1\1(+/)78\1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刻在            我    们 的  心      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求主怜悯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0:36:08Z</dcterms:modified>
  <cp:revision>18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