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BE4-71A1-48C5-9059-047D2BF7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93C-EF34-4410-B92B-D01AC611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446-3071-4B61-ADC4-84377868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E5E-E022-4362-9F7B-9E1D482D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B9D-1907-4C27-ABBB-0BFCD9E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20D-B7B3-43B1-9777-3B6E303E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92E-6859-42FF-84A4-2423A782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31A-68A4-4FBB-8812-B706065D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2A7-F2FA-4D0A-BA2D-ED5FFF28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960-7A9F-4BF2-AABC-1EDD8F42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18F-E2E5-4ED2-B94B-EB645165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8C5-528D-44EE-A91E-1B2CEA2C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936-01C4-4893-B788-C8F18E3899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134720"/>
            <a:ext cx="903600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``1/\2/4/\3/2/\2///\1(+/)1`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高    高  在    上  和    散        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高高在上和散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0:38:01Z</dcterms:modified>
  <cp:revision>18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