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322-626B-47D8-A395-3676E419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625-1965-4573-865C-DD50E023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925-148A-4342-B5DA-B60981E4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629-31C5-493D-96B3-95F8DBE6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DE2-EC93-4FCC-8DE7-A1835358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D31-D81C-41F6-9A6D-57CA444F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15C-CC0A-414C-B089-55F4B631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FE6-E0DE-461C-9A99-6B1B5F84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6C1-297B-483C-8EB5-9E1BE798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9B3D-F6A8-4269-8632-AB6BFBD0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192-0756-46DE-B0B4-7C551AE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336-F74B-4DB2-BF08-465B8327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21CB-1901-4332-89B3-BC637F8CE4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134720"/>
            <a:ext cx="90360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 /  /  /\7: / 6 / \5///\5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感谢主基督赐我  神    圣      福        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感谢主基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0:39:33Z</dcterms:modified>
  <cp:revision>18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