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EF0-4F53-489D-8C9D-4DF6C919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25D-27D5-4EF6-AC9E-62089C27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8E3-DA37-4FD9-9626-7B2EAF54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A03-3703-489C-AF1F-0848D247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A45-658D-41C1-8D0F-4BC560BC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3D9-5D54-4FB3-8381-2FF80CCE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218-841B-4BCA-9C9C-6618D062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DBD6-CB5A-4AA9-BDC8-2D1D1DEE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E02-4629-4C75-BFDD-5BF44A86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238-AC49-4501-A566-2FA6C5C2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51A-C7D5-4ADF-AAAF-BDBC08BB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582-F0AD-4FA1-A475-B9ED0D49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C3C7-A6E7-426A-97F8-ADF1906559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000" y="851040"/>
            <a:ext cx="9036000" cy="59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01SMN"/>
              </a:rPr>
              <a:t>（每读一段八福之后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3 3\5 / e e\2 1 2\3 /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赐 我 恩  惠，  主 啊，我 恳 求  你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01SMN"/>
              </a:rPr>
              <a:t>（读完八福之后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e e 3  e e e\5.e  e  e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把 训 言  写 在 我  心  上，主  啊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2 1 2\3 / /|68(+1)2\2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我 恳 求  你。      阿      们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赐我恩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half-note-triplet-minim-triplet"/>
          <p:cNvPicPr/>
          <p:nvPr/>
        </p:nvPicPr>
        <p:blipFill>
          <a:blip r:embed="rId1"/>
          <a:srcRect l="0" t="0" r="0" b="70214"/>
          <a:stretch/>
        </p:blipFill>
        <p:spPr>
          <a:xfrm>
            <a:off x="1932120" y="2816280"/>
            <a:ext cx="1090440" cy="2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0:52:39Z</dcterms:modified>
  <cp:revision>18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