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AB8-9342-4A11-86CB-D4AB5FD2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1AB-A3CB-4BB7-B48B-3A4E4F1B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34AE-BF3A-4070-A916-6FB2E063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1AF-70F8-43D0-BDA8-6D40E07A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26D4-319A-43E3-AC7A-E0CB53F5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D1D-F885-47A1-87CD-7D17486D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586-7953-4BC9-A724-5802EE11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B7F-E6BC-401F-A1FA-59C0F46D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EC4-CCAB-417A-A03E-9378C7C1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E4D-CCD5-42C5-8E90-8A7C9A6F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9B8D-FEBA-4083-9E51-185CC15F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AF06-1589-497A-94DC-3C5AC913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A602-6455-4682-9945-F2271899E2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4000" y="1455840"/>
            <a:ext cx="90360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 5P 6 !\7 6 5P /\6 5P 6 !\@ ! 7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我 愿 将 自  己 奉 献，   使 主 荣 耀  能 彰 显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 @ # !\6 ! 5 /\6 5P 6 !\7 7 6 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领 我 天 天  跟 随 主，   指 点 我 走  主 道 路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我愿将自己奉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0:55:31Z</dcterms:modified>
  <cp:revision>18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