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F25-1AC0-41DF-99F4-A82EC796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2C9-A4D8-494E-BB7B-45B20765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729-24C6-4E45-8FC0-5BE75923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FD7-4387-4083-BF54-09E02CE2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996-D9D8-480E-A2A3-59DF6787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7418-95EA-495F-95E6-F2C2A24D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AEE-AC62-4552-AD06-52B0DCD3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A2A-0C7A-4850-94AD-89F99737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66B-AD4A-4CAC-9DE9-433B82AA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F94-28AE-438E-8261-544F3331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79A-CE78-4226-983E-95D69951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BDD-6065-4AB9-89DA-AE96BB23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54F3A-ABA7-42ED-B4B4-82B1419C6B30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9T03:01:40Z</dcterms:created>
  <dc:creator>Ing Ming Loh</dc:creator>
  <dc:description/>
  <dc:language>en-US</dc:language>
  <cp:lastModifiedBy>Ing Ming Loh</cp:lastModifiedBy>
  <dcterms:modified xsi:type="dcterms:W3CDTF">2018-10-19T03:02:15Z</dcterms:modified>
  <cp:revision>1</cp:revision>
  <dc:subject/>
  <dc:title>PowerPoint Presentation</dc:title>
</cp:coreProperties>
</file>