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DCF-FBB2-4685-8783-D3275658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C19-3534-41F9-803A-3C23D1B2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515-1391-49AB-8316-0132E9CB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F8C-BEAA-4D44-AB39-EF7391CC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712-F73F-4F3B-8647-08284F54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EA8-09EF-4F94-999B-2A6DCC22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39F-B0F3-420C-AD73-2109B476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AF5-87C3-44F3-A27A-0E83D4A6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4D7-90D5-4ADA-B73A-0665E707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EDA-49DF-42D4-87AD-155BF845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044-1BC5-49E0-A2A4-9AD519A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F7D-90E0-4F42-8FF7-E0EEC192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9511-C7D6-41FB-A756-4506C72F9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646a copy.jpg"/>
          <p:cNvPicPr/>
          <p:nvPr/>
        </p:nvPicPr>
        <p:blipFill>
          <a:blip r:embed="rId1"/>
          <a:stretch/>
        </p:blipFill>
        <p:spPr>
          <a:xfrm>
            <a:off x="905040" y="6094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646b copy.jpg"/>
          <p:cNvPicPr/>
          <p:nvPr/>
        </p:nvPicPr>
        <p:blipFill>
          <a:blip r:embed="rId1"/>
          <a:stretch/>
        </p:blipFill>
        <p:spPr>
          <a:xfrm>
            <a:off x="847800" y="6714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27:15Z</dcterms:created>
  <dc:creator>celester</dc:creator>
  <dc:description/>
  <dc:language>en-US</dc:language>
  <cp:lastModifiedBy>Ing Ming Loh</cp:lastModifiedBy>
  <dcterms:modified xsi:type="dcterms:W3CDTF">2018-10-19T03:10:24Z</dcterms:modified>
  <cp:revision>1</cp:revision>
  <dc:subject/>
  <dc:title>PowerPoint Presentation</dc:title>
</cp:coreProperties>
</file>