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4D1-363E-4087-AD51-9CCFB94F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C3E-7DE5-4526-BF9E-9DE3DC48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161-347B-4690-9B39-7E211CE5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04B-6336-4552-B6B1-281C9D5F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B3E-A2CA-4667-BEF6-5ACA9FEC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0CA-DF9B-4E69-A561-8A895904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9AF-F2B3-4018-8246-E5AEC156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992-9FA0-409F-8475-863F6BDB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F1E-8C11-4E2C-9806-4B0A07CD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C55-77BB-46D2-B43E-20F4134E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ECE-E390-4E05-86F4-EA744E5F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62A-E0C6-4CCB-ABCB-5BD2A5B7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BCA0-C116-48A0-A32C-8FF05FD9C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647 copy.jpg"/>
          <p:cNvPicPr/>
          <p:nvPr/>
        </p:nvPicPr>
        <p:blipFill>
          <a:blip r:embed="rId1"/>
          <a:stretch/>
        </p:blipFill>
        <p:spPr>
          <a:xfrm>
            <a:off x="920880" y="430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6:29:38Z</dcterms:created>
  <dc:creator>celester</dc:creator>
  <dc:description/>
  <dc:language>en-US</dc:language>
  <cp:lastModifiedBy>Ing Ming Loh</cp:lastModifiedBy>
  <dcterms:modified xsi:type="dcterms:W3CDTF">2018-10-19T03:26:03Z</dcterms:modified>
  <cp:revision>1</cp:revision>
  <dc:subject/>
  <dc:title>PowerPoint Presentation</dc:title>
</cp:coreProperties>
</file>