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56D-BB4C-468C-B068-4A140385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66C-C4A5-45F3-9591-A4882D67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3BA-9DB2-46E9-B6D4-2B0DE7FA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D95-681F-4654-A2A6-8089E94F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4B8-074C-4F56-894C-C25B7337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0F0-2DAB-4276-8838-1F027073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9BB-B4C0-40FE-A739-F4A90BC1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42A-5741-4D5A-90C7-BB0DF539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F67-5673-41A4-8EA9-A25CAAD6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F7B-B8FD-46E8-B69B-FDB1E843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694-383B-467A-A045-EAF216B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E81-3E31-4D00-BF84-64607C5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3555-5BE1-484A-A0D8-97C4BCCD7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648a copy.jpg"/>
          <p:cNvPicPr/>
          <p:nvPr/>
        </p:nvPicPr>
        <p:blipFill>
          <a:blip r:embed="rId1"/>
          <a:stretch/>
        </p:blipFill>
        <p:spPr>
          <a:xfrm>
            <a:off x="463680" y="44280"/>
            <a:ext cx="81468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648b copy.jpg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31:50Z</dcterms:created>
  <dc:creator>celester</dc:creator>
  <dc:description/>
  <dc:language>en-US</dc:language>
  <cp:lastModifiedBy>Alice</cp:lastModifiedBy>
  <dcterms:modified xsi:type="dcterms:W3CDTF">2018-04-26T01:35:55Z</dcterms:modified>
  <cp:revision>2</cp:revision>
  <dc:subject/>
  <dc:title>PowerPoint Presentation</dc:title>
</cp:coreProperties>
</file>