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A71-83BA-4379-A892-FF77487C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B1B-ECCA-42DD-8521-35287156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006-BC8A-4925-BC18-1177DEA9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7AA-7591-470F-9BAA-526673F0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4541-22F6-4593-A1A8-785AEE9A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AEE0-4467-4432-A19E-8773FB50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7492-193E-49E2-9DE7-A9B2F7FF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B08B-33A3-47F3-97BD-03ECA7A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2E87-B2DD-4890-9370-23A9CEA0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882A-19C0-4DEF-9324-A3550F26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3543-9DF4-483D-9120-C767BDB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FA1-B410-4031-87AF-CAC75049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ACBA-CDCA-4FD6-BE31-CF8D43A4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2CB9-6521-4B0C-953A-03B7E3EF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42ED-5281-45CB-92DB-90CF13B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D212-E7DD-4BD9-9BE6-0A914911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6F55-7F31-4A65-9BC1-5C402F77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927-CA1A-43B7-8D1C-1E25F296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34F-6D68-4150-9D45-ED62F2F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E39-2AAC-440E-B253-20C1DBD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4D1-59A1-47F2-BECB-46123D75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684-CAF8-4341-B240-2A59DC6B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3CA-DEC5-4DBB-B99A-7EAD573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376-3314-40C0-BC95-AD397BD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5280-D030-44DD-B0DA-5F2F8D60C5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9F0F-DBFB-4085-873E-446B2DAD6D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1071360"/>
            <a:ext cx="9036000" cy="57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3   /   /   /  \2/33\4/3()2\3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我们在天上的父愿人都 尊  父的  名  为    圣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3      /      /      /    \2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愿父的国降临。愿父的旨意行在地  上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1\2 2 3(_ )2\1 / / 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如 同  行 在 天     上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3    /    /    /   \2(+/)3/\4/3()2\3/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我们日用的饮食，求父今日 赐        给  我    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主祷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279360"/>
            <a:ext cx="9036000" cy="65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3     /     /     /    \2/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又求饶恕我们的罪，因为我们饶 恕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1 1\2 / 3 2\1 / / 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得 罪  我    们 的  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3    /    /    /   \2/3/\4/32\33/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不叫我们遇见试探，    拯 救  我    们  脱离  凶恶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3       /       /       /      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因为国度，权柄，荣耀，全是父的，直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01SMN"/>
              </a:rPr>
              <a:t>2/1/\2(+ +/+ +3_ )2\1 / / /\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01SMN"/>
              </a:rPr>
              <a:t>永  远。  阿           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09:40Z</dcterms:modified>
  <cp:revision>18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