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71F-54B5-4DA2-8707-EA743897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B9B-89DF-4E12-ACC4-F331DB08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189-529E-49CC-8266-CA2FCFB0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8EF-CC2C-4E02-B26D-78610F99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A50-A883-4BEC-8AC1-2036DF22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AC7-780F-4780-873E-19407EE2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FAA-82BF-477C-9CD9-DD7948F7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0DA-40B1-4DBE-A6A5-9C1E92D0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03B-C1DA-4777-9B2D-53E6F2E1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5D7-975B-4B4B-B8BC-B3C32887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B82-9B47-4152-BBFF-50A14C63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7F6-95CB-4078-9ABC-5495A038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5959-0912-45AE-8283-A8C1AB293E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5943600"/>
            <a:chOff x="0" y="0"/>
            <a:chExt cx="9144000" cy="59436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2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061800"/>
              <a:ext cx="9137520" cy="288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5638680"/>
            <a:chOff x="0" y="0"/>
            <a:chExt cx="9144000" cy="563868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4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2988360"/>
              <a:ext cx="9142560" cy="265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0:42:21Z</dcterms:modified>
  <cp:revision>4</cp:revision>
  <dc:subject/>
  <dc:title>Slide 1</dc:title>
</cp:coreProperties>
</file>