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564-075C-4BB9-8299-F68790DB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550-ED28-4229-8D02-92028A63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7BC-26FA-46A9-B465-73606135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A18-73A7-4638-A1AE-ADFB6E10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E559-1156-483F-B0E5-F58C6C4F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89D6-A930-423A-B3C4-9033E084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2608-AEC4-4CBB-908A-7B54F4A2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C4D4-E080-4FBC-A5E7-4B183DE7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66E3-4E3F-4DC8-9987-44037A22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9BB0-CE8C-46F2-9353-2C9801E8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2147-4D27-47F9-B80C-A1BF814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88F-B0AA-4771-9281-DAFF06A9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E064-345F-4F02-AAF8-10A6811E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351A-2EBE-44BF-8DF1-6F419094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B1DB-D24E-45B8-BC3E-A2227EA2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2123-65BD-41B9-81F0-72AA7998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C29A-910A-48E5-B91E-B4A8A968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9F8-0FC5-47F9-A51F-A184598F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DF68-F128-48D6-99A5-2CAFF7125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664-2EA3-45E0-8C73-08D3976F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677-20D1-4533-9D13-E9A7CD8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B07-3DA2-4291-B9FC-23714EBE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32E8-182E-4060-A114-83DC351A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3F8-6272-4BBD-830A-FA16DF48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EC56-FE59-44FD-A4FB-0387C74C6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E98B-FC8C-4AE7-BB2E-020E44E9AD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4000" y="1455840"/>
            <a:ext cx="9036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78 1.w\3 tr32\3 3 3.y\5 4P 5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愿 主 耶  稣  基 督  恩惠，天 父 上  帝  大 慈 爱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4P 4L 3\2.q 1 78\1 1P 2 6\1 ew1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圣 洁 神 灵  安  慰 感 动，临 到 我 们  常 同  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愿赐恩惠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4000" y="1455840"/>
            <a:ext cx="90360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78 1.w\3 tr32\3 3 3.y\5 4P 5/\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我 们 信  众  靠 主  合一，互 相 系  结  与 主 连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5 4P 4L 3\2.q 1 78\1 1P 2 6\1 ew1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同 享 主 内  甜  蜜 团 契，在 地 喜 乐  如 在  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01SMN"/>
              </a:rPr>
              <a:t>1 / 1 /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01SMN"/>
              </a:rPr>
              <a:t>阿    们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74"/>
          <p:cNvSpPr/>
          <p:nvPr/>
        </p:nvSpPr>
        <p:spPr>
          <a:xfrm>
            <a:off x="1932120" y="328680"/>
            <a:ext cx="52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大黑简体"/>
              </a:rPr>
              <a:t>愿赐恩惠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75"/>
          <p:cNvSpPr/>
          <p:nvPr/>
        </p:nvSpPr>
        <p:spPr>
          <a:xfrm>
            <a:off x="7524720" y="328680"/>
            <a:ext cx="10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普颂</a:t>
            </a:r>
            <a:r>
              <a:rPr b="1" lang="en-US" sz="1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76"/>
          <p:cNvSpPr/>
          <p:nvPr/>
        </p:nvSpPr>
        <p:spPr>
          <a:xfrm>
            <a:off x="490680" y="3286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方正大黑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dc:language>en-US</dc:language>
  <cp:lastModifiedBy>tony</cp:lastModifiedBy>
  <dcterms:modified xsi:type="dcterms:W3CDTF">2019-07-01T01:15:53Z</dcterms:modified>
  <cp:revision>18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