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C4A-9685-42CB-8752-AC235FAB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EEA-DE64-409B-A415-E7602F96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BBB-5E9C-466D-ABCE-780B27ED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83F-36EE-4A3E-8EF3-6939D61B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089-9A26-4CAA-802F-6C72F87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3AB-C783-4FBF-A4EF-636166F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A96-9C32-4FA0-9191-0ED01AF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141-D084-48FC-B67B-5A789A1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6D9-4FC1-428C-B987-774D0584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597-87D2-4CA4-8B4A-ABB22FA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282-D2FD-4B25-83C8-22BC4F9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558-5FFC-4348-9589-2F26689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8DF7-BB75-4F53-A70F-8755F7BA0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696960"/>
            <a:ext cx="9036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213\5.q4321\2/1/``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  作我主  脑，使我明达也  清  醒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/321\!//765\6/5/``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  显我双  目，  使善恶  分  明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213\5.q4()32()1\2/1/``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  操我舌  头，和一  切    言  行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/321\!//765\6/5/``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  进我心  怀，  使思想  洁  净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213\5.q4()321\2/1/``|</a:t>
            </a:r>
            <a:r>
              <a:rPr b="0" lang="en-US" sz="1700" spc="-1" strike="noStrike">
                <a:solidFill>
                  <a:srgbClr val="000000"/>
                </a:solidFill>
                <a:latin typeface="01SMN"/>
              </a:rPr>
              <a:t>1//1//|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  伴我到  底，直到  我返  天  庭。      </a:t>
            </a:r>
            <a:r>
              <a:rPr b="0" lang="zh-CN" sz="1700" spc="-1" strike="noStrike">
                <a:solidFill>
                  <a:srgbClr val="000000"/>
                </a:solidFill>
                <a:latin typeface="01SMN"/>
              </a:rPr>
              <a:t>阿    们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神在我身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27:55Z</dcterms:modified>
  <cp:revision>18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