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6982-BFC1-4BC2-B342-DFF1D7FA0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5857-738C-476C-8632-17307E194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9686-29A9-448F-AF93-68DA2C080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AFB1-A5D4-4BE7-80CA-C1BB8BB06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CDCE-6EBB-400E-AADE-02236F98E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5D74-9993-4DAB-858D-A7787B486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2888-70C0-4FB2-99F6-86DFE4800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0D79-2DA6-4258-AAAE-2D9FCC0E2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C9FF-2010-4F36-9A2C-AE2A3DF1F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C7FD-0A30-4957-9CAB-5228A2C2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4506-FEDC-4995-8C37-660770CA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C3A2-30D0-42D4-8B4E-23CB99F2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6C94-59C9-4B3B-B6CB-8A152154E2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4000" y="696960"/>
            <a:ext cx="9036000" cy="61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01SMN"/>
              </a:rPr>
              <a:t>58.ti583\2//`\</a:t>
            </a: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58.ti5832/\78 yi ui2 78 68 58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    </a:t>
            </a: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神，作我主脑，  使 我 明达 也 清 醒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58.ti583\2  78 2 78 68 58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神，显我双  目，使 善 恶 分 明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58.ti583\2  1 3 1\78 / 68 /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神，操我舌  头，和 一 切  言    行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58.ti583\2//141\78: / 68 /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神，进我心  怀，  使思想  洁  净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58.ti68qui:68/\6.yi78: 6\58/58/\</a:t>
            </a:r>
            <a:r>
              <a:rPr b="0" lang="en-US" sz="1600" spc="-1" strike="noStrike">
                <a:solidFill>
                  <a:srgbClr val="000000"/>
                </a:solidFill>
                <a:latin typeface="01SMN"/>
              </a:rPr>
              <a:t>68///\58///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神，伴我到  底，  直  到我 返  天  庭。  </a:t>
            </a:r>
            <a:r>
              <a:rPr b="0" lang="zh-CN" sz="1600" spc="-1" strike="noStrike">
                <a:solidFill>
                  <a:srgbClr val="000000"/>
                </a:solidFill>
                <a:latin typeface="01SMN"/>
              </a:rPr>
              <a:t>阿        们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074"/>
          <p:cNvSpPr/>
          <p:nvPr/>
        </p:nvSpPr>
        <p:spPr>
          <a:xfrm>
            <a:off x="1932120" y="328680"/>
            <a:ext cx="521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大黑简体"/>
              </a:rPr>
              <a:t>神在我身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075"/>
          <p:cNvSpPr/>
          <p:nvPr/>
        </p:nvSpPr>
        <p:spPr>
          <a:xfrm>
            <a:off x="7524720" y="328680"/>
            <a:ext cx="10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普颂</a:t>
            </a:r>
            <a:r>
              <a:rPr b="1" lang="en-US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6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076"/>
          <p:cNvSpPr/>
          <p:nvPr/>
        </p:nvSpPr>
        <p:spPr>
          <a:xfrm>
            <a:off x="490680" y="32868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6T10:49:19Z</dcterms:created>
  <dc:creator>ChaiYiing</dc:creator>
  <dc:description/>
  <dc:language>en-US</dc:language>
  <cp:lastModifiedBy>tony</cp:lastModifiedBy>
  <dcterms:modified xsi:type="dcterms:W3CDTF">2019-07-01T01:33:51Z</dcterms:modified>
  <cp:revision>186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8641</vt:lpwstr>
  </property>
</Properties>
</file>