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C2F-7EC1-4AEB-8278-73A77E6D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AA0-08DC-46F0-9D4A-CEE5F89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8FE-7979-4993-8220-543DD33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201-76AC-4E6F-B77C-D5787A7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716-B057-4640-B066-9D122DD5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DF9-BAF1-488A-912E-1905453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AA8-474C-418C-B021-9CAEDFF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5B1-75D9-442A-8E2A-D21BEF1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49F-78F1-44F7-9D96-948946B4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9E4-80A1-445B-A467-A220502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E90-6798-43AA-AB09-639ED84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D86-998E-4362-801A-487C13F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46D-7B58-4650-B295-FDEF46D72B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555920"/>
            <a:ext cx="90360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8\3.e33\5/3 q q\2/22\3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愿  主  耶稣的  恩  惠 常 与  你  们同  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4/3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祝福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35:34Z</dcterms:modified>
  <cp:revision>18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