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A20-6F3A-4A5E-A7BF-33D3A151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18F-68C6-4D9C-8A48-46BE909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124-CBBC-4F11-8540-79BD1E00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DDD-4BEC-4903-993C-5B988DAD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058-9216-4722-970B-C4BB6030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60E-6010-4362-B086-DDDBB07F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9ED-F3DF-4738-BAD0-41208DFD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194-DC93-4271-ACA8-99A2969D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D35-94A2-4283-BA96-FC795A4C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D8A-3ACD-45F7-A1CD-F22629B2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91A-E2EF-4049-8E59-93B6538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AAA-333C-4217-A1BC-7000F486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2A4C-E642-4BF6-8B9E-3D506A63C7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555920"/>
            <a:ext cx="90360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3 /\3 / 5  5\2 / 4 4\3 / / 3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平    安，   上    帝  的  奇    妙 平  安，     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.Q! 5P\7 6 4  2\3(_ )5 / 5\5 / / `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你  同在 直  到 永 远。阿  们，     阿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平安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1:39:41Z</dcterms:modified>
  <cp:revision>18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