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2E3F-A848-476D-A66E-A22D97D8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F62-C6DD-4445-8C60-A6053E91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0F3-C09E-41D0-BBDF-B0851926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9DA-DEA8-4BDE-AA70-67BE9140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10C-0617-4E67-A3E6-267F95F7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289-E396-46A6-82BF-19DE7E8B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6CF-2706-4EF9-BA9F-A1C10175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5DD4-C09E-4E69-9760-68512823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BE3-3BBF-4C31-8199-C7398FDA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B30-F4F6-4419-9C8D-48D3D7FC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142-CC28-4F7B-8041-CA8730DF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E2C-3220-4E10-8B0B-11334A62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631F9-DD28-460A-97A7-2A235B3708C1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9T06:28:00Z</dcterms:created>
  <dc:creator>Ing Ming Loh</dc:creator>
  <dc:description/>
  <dc:language>en-US</dc:language>
  <cp:lastModifiedBy>Ing Ming Loh</cp:lastModifiedBy>
  <dcterms:modified xsi:type="dcterms:W3CDTF">2018-10-19T06:28:33Z</dcterms:modified>
  <cp:revision>1</cp:revision>
  <dc:subject/>
  <dc:title>PowerPoint Presentation</dc:title>
</cp:coreProperties>
</file>