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A7A-DCEE-43AC-AB1A-7C35E55B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B39-A46B-45C5-B8B3-69CBA55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E96-4272-478A-8707-729C7E9D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997-E9D4-4EBF-BD32-2E42BE81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7BE-9A4C-4ED7-9994-7F0E965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7CE-D286-49B9-917E-AF4A554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1DA-0654-4305-8CE6-7CFCD412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AF5-89F7-428E-885A-DF98CCD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BCF-BD51-47B3-B2DB-774ECB02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051-2297-4F0D-B6D2-39441F7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E5A-C586-4ADC-890E-71E824F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E5E-DE72-411B-AE3F-E5B2232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DB3-ADC8-474C-9896-C7707406F4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0:41:26Z</dcterms:modified>
  <cp:revision>3</cp:revision>
  <dc:subject/>
  <dc:title>Slide 1</dc:title>
</cp:coreProperties>
</file>