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4E6-0305-4D65-8958-A29C9F44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EBD-5968-4A25-9602-9FD15D9D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968-FDB1-4071-A6EF-57837FF6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2FB-0AC6-463F-A035-8F9805FE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CE9-A908-40F0-B3DE-8590C0D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43D-C711-470E-8F7C-7A526D2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A54-433E-4918-9A39-81541A06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7AF-6094-4451-89D9-4BFBF7A0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F6D-3E37-4BAE-B645-0738591D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1AA-9EC9-44A3-83C1-0D219135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ED4-3A23-41C9-9929-50C9F9F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A7B-6CF5-488A-9C4C-4E51EDB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5131-9CA3-43C1-8EA1-17F078E409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555920"/>
            <a:ext cx="90360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///\5///\3/6/\6(+/)5P/\6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        主        怜  悯    我        们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/5/\5///\3/6/\6(+/)5P/\6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  基    督        怜  悯    我        们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///\!///\7/6/\6(+/+5)P4P\5P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        主        怜  悯    我    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求主怜悯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1:44:25Z</dcterms:modified>
  <cp:revision>18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