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645-A12F-4FC0-B398-5F002167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A6B-6669-45C1-8E50-2AF58C4A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AA7-1CC0-44C1-8023-7CACCF42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3D1-C2A1-459A-B213-53230A9D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3D7D-E4C7-4D85-A842-46BC6F14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81AF-A0E7-4288-9511-D63657F7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1037-ACC6-4EDC-8CE4-CD4A2078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70BA-A36B-4120-B2D9-E7476F32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06AB-FD75-4AE6-B1AA-A4751B51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E17D-7830-4384-899D-4B1C554A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9CF2-9254-4A82-AC11-4810D6ED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1E5-98AB-4A7A-8620-CE149FFE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CD06-B781-46CF-A3AD-F07E015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3E2D-1C7C-4D31-B994-AC2A1D0D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97D1-5F2F-469A-A535-AD4CF1E2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83A8-820D-4373-9EDD-3ACBECF3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0CE0-111C-44B5-8CD9-A3F1681E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3D0-9BED-4529-AD91-7853E1AA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6CD-1925-49FD-9A4A-E99220DD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A57-E18C-40D7-B466-88C7D43B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C09-4082-4A31-87CF-7C739ADF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49C-03B0-4E87-A842-51A8FFEB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4DC-F8B0-4BD1-A62F-1D306E09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51C-7EFB-403A-96EC-18DB7646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9278-E847-4742-9303-8CCD5B5DF5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35F0-F1C1-4FAE-B675-3386AB311F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/ / / \78 / 1 /\2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惟愿在上荣耀，归    于 上  主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 \3/4/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在地上平安归于主 所  喜    悦  的    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荣归主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    /     /      /    \78 / 1 /\2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们赞美主。称颂主，敬拜主，  荣    耀     主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 \3/4/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为主的大荣耀，   感  谢    主  上    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荣归主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/ / / \3 / 4P 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天            上    的     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 \5/6/\5(+/)4/\3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全能的           上  主    圣        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荣归主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 /  /  / \3 / 4P /\5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，独生圣子耶   稣    基     督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 /   /   /  \5/6/\5(+/)4/\3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主上主。上主的羔羊圣 父  的    圣        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荣归主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 \2 / 1 /\4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除 掉 世 上   罪    的     主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 \2(+ +/) 1 /\78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怜恤          我       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荣归主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 \2 / 1 /\4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除 掉 世 上   罪    的     主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 \2(+ +/) 1 /\78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允准我们的    祷           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荣归主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 \2 / 1 /\4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坐在上主圣父  右    边 的  主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/ / / \2(+ +/) 1 /\78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怜恤          我       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荣归主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 /  /  /  \78 / 1 /\2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因为基督独        一    为     圣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//\3/4/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基  督    独  一    为        主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荣归主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4000" y="1136160"/>
            <a:ext cx="903600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 /  /  /  \78 / 1 /\2//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只有基督          与    圣     灵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  /  /  /  \3/4/\3/2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在上主圣父荣耀里，同        为  至    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78 / / /\1 / /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阿           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荣归主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2:07:08Z</dcterms:modified>
  <cp:revision>19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