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B77-B080-4FE0-9770-58BC3A11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3F2-E277-43BB-9B0E-D2C9576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04E-F8F7-4C7E-9393-98803933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BFE-731B-4C71-8D8C-7B68CC4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E60-D20D-4D19-993E-914E91FB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396F-5A6B-4458-A6E8-479C1D34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0FC-CCE0-4173-B6CB-0BD318FF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ACE-3D02-490D-A831-191B9556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23BD-19A1-4142-B229-DD8547D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695D-4345-47C5-9238-F0ED41C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2C03-97BC-4BCC-9613-4B5E60F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080-A7B7-45C2-AF75-96CC2046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56F-F79A-42E2-998A-8B22069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95E-CE5C-47F9-A9CA-E29B9DB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987-EBB1-4E23-B595-967E9CC8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2C21-AD5F-4AFD-8D98-A1C70128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76EA-3A72-452C-A73C-93319F8B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766-3B19-4D49-906B-531819F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D09-E33C-4C2B-9D50-89AE367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FA4-D035-48FA-9763-26E98CBD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605-25FD-45F2-B6E3-6A98983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C33-8C5F-4745-A3D1-21A691B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FE2-584E-44CC-AF4D-442A163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7F3-D95A-48D8-8F97-C1667CF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8BC-5E45-46D9-958F-2AB4148CB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8612-7798-41F6-85BD-8084180ED1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启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2/3/4/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2/3/2(+</a:t>
            </a:r>
            <a:r>
              <a:rPr b="0" lang="en-US" sz="12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)1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你  们  心  里  当  仰  望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应）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2(+/+3+/+4+/)3/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2(+/)3/3/2(+</a:t>
            </a:r>
            <a:r>
              <a:rPr b="0" lang="en-US" sz="12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)1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  们          心  里  当  仰      望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心中仰望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启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3 / 2(+/)3/2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当感谢我    主    上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应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3/3/2(+/+3+/)4/3/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2/3/2/2(+</a:t>
            </a:r>
            <a:r>
              <a:rPr b="0" lang="en-US" sz="12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)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01SMN"/>
              </a:rPr>
              <a:t>///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感  谢  我  主          上  主  是  应  当  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2:22:43Z</dcterms:modified>
  <cp:revision>19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