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AA3-2141-4A9C-8F6D-4DC02ACA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C78-A4A7-4F3B-9079-21E76D2D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833-AB2C-4C10-831D-FD6B21DD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AD9-AA9F-4978-9FD4-17E47C23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0FD-14F5-47B7-8864-2DE412AF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FBD-6EF9-445B-84B9-D7FBEE3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1B9-5F5E-42DE-81D7-676D936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C03-58A8-4FA7-B6AD-FCE651A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023-C205-4662-AE58-A314F84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245-7E6D-404E-8918-A116131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F7A-C577-419E-809E-CD6B88C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B1E-D1D2-4E60-97C0-FA8A3BB8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6B63-918E-4922-AFE2-47785DB78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1 /\3 / 3 /\6 / 5  3\4 5 3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圣    哉，   圣    哉，   圣    哉，万  军 之 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2 2 5 6\7 / 6 5\5(+ +/) 6 / \5 / / `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天 地 充 满  上    主 的  光            荣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1 1 6\5 / 4 /\3 / 2 / \1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愿 荣 耀 归  于    至     高    上 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1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阿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三圣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2:28:20Z</dcterms:modified>
  <cp:revision>19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