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2D2-E6E9-4EF0-BCF2-31276335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161-B232-469F-AF30-F9A7865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363-9659-4500-918C-60BAB380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585-0BDC-4421-A152-D1ECF3F2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253-FF55-4C4D-B0FF-CFF05982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476-DB68-4205-BEDD-01795253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9DB-8011-4AA4-BA23-7C6F44D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C41-D45A-4DB7-B4A4-37E4C2DF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E0D-99AC-4E4C-BC8E-4AD2106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DDD-9974-4520-AEF5-26EDDDA1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364-8668-434C-B639-9B427B3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473-5F87-4C23-A0E6-B260A33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9BE-3586-430A-A54A-2B826AB5D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6  ter2\3 1 e w yi 2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 哉，圣    哉，圣 哉 万 军 之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6  ter2\e e  re2.q\1//`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 哉，圣    哉，圣 哉，万  军  之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1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三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half-note-triplet-minim-triplet"/>
          <p:cNvPicPr/>
          <p:nvPr/>
        </p:nvPicPr>
        <p:blipFill>
          <a:blip r:embed="rId1"/>
          <a:srcRect l="0" t="0" r="0" b="68672"/>
          <a:stretch/>
        </p:blipFill>
        <p:spPr>
          <a:xfrm>
            <a:off x="1316160" y="1241280"/>
            <a:ext cx="919080" cy="13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alf-note-triplet-minim-triplet"/>
          <p:cNvPicPr/>
          <p:nvPr/>
        </p:nvPicPr>
        <p:blipFill>
          <a:blip r:embed="rId2"/>
          <a:srcRect l="0" t="0" r="0" b="68672"/>
          <a:stretch/>
        </p:blipFill>
        <p:spPr>
          <a:xfrm>
            <a:off x="4037040" y="1241280"/>
            <a:ext cx="1049400" cy="15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alf-note-triplet-minim-triplet"/>
          <p:cNvPicPr/>
          <p:nvPr/>
        </p:nvPicPr>
        <p:blipFill>
          <a:blip r:embed="rId3"/>
          <a:srcRect l="0" t="0" r="0" b="68672"/>
          <a:stretch/>
        </p:blipFill>
        <p:spPr>
          <a:xfrm>
            <a:off x="1316160" y="2448000"/>
            <a:ext cx="9190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2:33:49Z</dcterms:modified>
  <cp:revision>19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