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314-6985-461B-95FA-32FA960D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077-C8C7-4EDB-A978-271DBA0B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8E3-B859-4C88-BC71-0B402523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5A5-74FE-4584-B14E-E10F8C63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D91-D06E-4B09-8002-2DBB2878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DC9-9FE8-40A9-911E-FCEB538A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585-F988-44C2-8754-44964C4D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F52-B8C3-4FE6-A0CC-D83179C5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050-E16F-44EF-A20D-4A8A08F2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01A-A65F-442A-986F-22AD68DD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B54-01BD-470E-9142-A9425128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568-2458-4625-8C9C-E3C7B5B0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BD97-68BF-4763-B6F8-864DEF48B6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68680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0:40:23Z</dcterms:modified>
  <cp:revision>1</cp:revision>
  <dc:subject/>
  <dc:title>Slide 1</dc:title>
</cp:coreProperties>
</file>