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5509-88D2-4799-8275-5A8CC1864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84E1-1ADF-43F0-8B99-8B551443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EE59-D8F1-47EB-B58A-FC2E5DC24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15A7-DDE1-4AB6-B021-0D6B6BEA4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94C1-C5E2-4212-BA42-D16BC755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6C96-41AC-4C98-A411-C24650E3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4777-5F12-4D56-99F3-CEA9DA3F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FEC4-1F22-47F9-9D00-B21E77DE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3A57-F198-40E3-AE1F-934390CB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647B-F194-4106-BD35-F6AA9403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49DF-A48F-4AFD-9EFF-35373DB2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6A1F-19C0-4448-A15A-4DD5138E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CD74-A0F5-4C8F-95EF-C76DD1ADB4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4000" y="784080"/>
            <a:ext cx="903600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yi q w\3.w eyt e\2(_ )e e 1(_ )2\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除 去 世  人  罪 孽     的  上    帝 羔     羊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e uiw ui ti\68 68  p y y t\3.t yuy t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就 你   怜 悯  我 们。   除 去 世  人  罪 孽     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3(_ )w w 3(+  +t)w\3.e te w q\2 2 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上    帝 羔        羊，求 你   怜 悯  我 们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yi q w\3.w eyt e\2(_ )e e 1(_ )2\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除 去 世  人  罪 孽     的  上    帝 羔     羊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e 78  w w\78 58 68 68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求 你  赐 平  安 给 我 们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羔羊怜悯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6T10:49:19Z</dcterms:created>
  <dc:creator>ChaiYiing</dc:creator>
  <dc:description/>
  <dc:language>en-US</dc:language>
  <cp:lastModifiedBy>tony</cp:lastModifiedBy>
  <dcterms:modified xsi:type="dcterms:W3CDTF">2019-07-01T02:42:17Z</dcterms:modified>
  <cp:revision>194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8641</vt:lpwstr>
  </property>
</Properties>
</file>