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AB2-8074-42D8-87C0-4186B863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68B-6E6E-4DB0-B18C-A725D06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D7E-FDE3-4163-8FC6-DE786D5D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DAD-B2C2-4D00-A571-AB581479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89F-903F-49DE-9318-E4822A3A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1A09-4D8F-4BD8-ACA4-6446AF1E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D5A-DBF0-469B-A7A8-DBA7296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711B-F2D9-46ED-A2EA-8FE193B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5F5E-006D-47CC-8C4A-B666B941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66F-3D35-4932-9E35-D3C8C7E4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BE7F-5E6D-41CA-8DAC-F862CEE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1C2-A4D5-484E-B8AB-F9AB9DAF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EC01-9638-44CB-B919-73E0440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3016-C67C-4142-B1DA-E85118E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B61-99EE-4515-A4E9-47AB8872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D69-05DB-43CB-BF06-F04CDABF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2F1-AE2F-4828-9BC7-92706EDD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60B-BDF5-4BF1-A691-A6F0FD0F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7A2-8C46-4556-9284-C291DBC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97C-C961-4DCD-AC65-8EA7641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58D-5DA3-44BE-A048-2C2BE91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54-25D6-4EB9-B13E-1E8453D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968-7AA5-441F-AE0E-D3996C6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549-2AB3-4BD5-896E-B46500A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4D4-2A9B-4306-9667-682C94F7B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6F3-2268-46B1-8BCE-5E2FE2F6BF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来啊，我们要向耶和华  歌        唱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向拯救我们的  磐  石    欢        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/ / /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要来      感  谢  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用诗歌        向  主    欢        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耶和华              为  大    神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为大王，超乎  万        神  之    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/ / /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地的深处在    主  手    中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山的          高  峰    也  属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海洋属主，是          主        造的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旱地也是      主  手    造        成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来啊，我们屈身   敬        拜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/ 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在造我们的耶和华 面  前    跪        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为主是              我  们的  上帝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 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是主草场的羊，是  主  手    下  的    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当以圣洁装饰，敬拜  耶  和    华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/ 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普天下的人，都   应  当    敬  畏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为                  主        来了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 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来，            要  审  判    全        地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要按公义审        判  世    界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/ 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按信实           审        判  万    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 /   /   /   \5/4/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但愿                  荣        耀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  \2/5/\5/4P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归于                  父，      子，圣    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  /     /     /   \6/7/\!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起初这样，现在这样，以后    也  这    样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/  / \5/4()3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永               无  穷    尽。啊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都来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3:23:48Z</dcterms:modified>
  <cp:revision>19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