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B18-93C6-49DC-9C00-C23945D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0F2-983E-4680-8A5D-F493449E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06E-E894-4111-A643-82F71668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7B5-EB3B-41D6-BBA2-540B4090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2936-AF2D-437F-BAA6-5FE8DEAB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119-2C3D-4BD0-8785-C6895D7B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146-F942-418A-BE2E-1378C18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DDE-8053-4477-AD81-9C6F3D2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3A2-61ED-4DB6-8DD7-B2DA46B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348-5317-478D-AD06-8B8B676E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E56-CC3D-4CC7-931F-B762B72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9F8-B6DC-44D8-9625-4E726DF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3164-798A-402B-B470-6BE0FC8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FE61-85FF-4B84-9A6C-FBC9859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AAB7-135C-4068-8310-078944FF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6E1-E100-4FE7-B4FA-89CA1D7F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677B-B221-48EC-A1A7-FF0DBD34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4DC-0251-44E4-B586-DFE448ED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B7C-EEAA-4BD9-B771-0735A81A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7E4-6DD4-437B-BA51-095BCB32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8B2-5FAB-49C3-8ECE-3464DFEC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576-150C-45DD-9261-2C783E8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61C-D7F1-4B40-9481-D66D323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837-D206-42F6-AB4C-79E1E84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B4A-40AF-4C92-B4D6-F524A64259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2BF-9CB8-4C0B-BD14-1487673129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赞美主为      上           帝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认            为    万     有    的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普天之下，  都    敬    拜    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无            始    无     终    的     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\! / 7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所以救主拯救        主    的     仆人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5 / 4(+ +/)3\2/2/\1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就是主用宝血所  救             赎  的    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3 / 4 /\2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使我们列在        圣    徒     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\1 / 4 /\3 / 5P /\6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同享     无  穷    的     荣           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拯救              主    的     百姓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赐            福    于     主    的     选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              治    理     我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扶助          我    们 以  致    永     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                  天           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颂            主           为           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尊奉          主 的 圣     名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永            世           无           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                  保    佑     我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今            天           不    犯     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              怜    悯     我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怜            悯           我     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施怜              恤    于     我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        为  我    们     倚    靠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          惟    倚    靠    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使我      永    无     羞           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天和天使，并天上一切  掌           权的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都            高    声     赞    美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基路伯和          撒    拉     弗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时    常      大    声     称    颂    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说，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哉，           圣    哉，   圣哉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天            地    万     军    的   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的荣耀          威           严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充            满           天           地。</a:t>
            </a: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有荣耀的              众    使     徒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都            赞           美     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有名望的          众    先     知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都            赞           美     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为道舍命，穿白衣的    军           队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都            赞           美     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普世              圣    教     会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都            承           认       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 \# / @ /\!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威                                 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(+ +/+ +/+  )7\6 / 5 /\4 / 4 /\3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无            量    的     圣           父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 \5 / 4P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至贵至真的独一    圣           子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/ /  /\$ / # /\@ / @ /\!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抚恤人的      圣                        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\! / 7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基                             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5 / 4(+ +/)3\2/2/\1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是有        荣  耀    的       君           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3 / 4 /\2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是圣父      无    始    无     终    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\1 / 4 /\3 / 5P /\6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                                     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\! / 7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要成为人身，拯救  世           人，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5 / 4(+ +/)3\2/2/\1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不辞        为  童    贞       女    所     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3 / 4 /\2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既胜      了    死    的     苦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\1 / 4 /\3 / 5P /\6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就为众信徒   开    了     天    国     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\! / 7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坐           在   上    主 的  右边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5 / 4(+ +/)3\2/2/\1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和              圣    父       同           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3 / 4 /\2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信主    必    再    降     临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\1 / 4 /\3 / 5P /\6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施           行           审           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赞美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5:32:46Z</dcterms:modified>
  <cp:revision>20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