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59C-B419-4FE4-803B-9C3EBABB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354-2F64-4220-9B8F-935FE60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999-4FCE-448F-A263-D6EC691B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C57-1483-4B15-A06E-645EEF14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AB75-2758-4D3A-8F09-C8737EDA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6007-1CAD-47E5-A66C-262D2F53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AAF-8A79-4864-B094-D36A701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365-9F60-48E8-88DB-4D4DC91C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C689-5660-40BA-BBA0-71504D7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657-E241-43A7-AE44-F9859DAC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A52E-ED7B-4B1C-9885-75D5827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732-865E-4D42-8173-8600EDAA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E894-B3CC-46C9-910B-2D2EB28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2FC-6E31-4A3F-B73C-FC634A1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C7E-8323-4F8F-BF64-0DEDE34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351F-C826-4CC8-817F-44148ED8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8B6E-447F-4D25-94F1-0C138D0F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C31-9A32-47FB-BAEF-374849E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DF8-04A8-4515-A83B-975A0284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887-80D4-4CC7-9C1D-F54D0E9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11A-4053-4975-9918-857F067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6AB-FA07-4D3A-8650-3AE764A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F76-DB7D-4602-9386-B61AAA6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9AB-C79C-4793-BE78-6845228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34D-1D41-449F-B80D-9CF2F567F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052-C4A6-4D2F-9256-2E6AFB04CE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/   /   /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普天之下当向耶和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6  /\5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欢              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  /     /     /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你们当乐意事奉耶和华，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2 /\3 / 3 /\2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来    向     主    歌     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欢呼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你们当晓得耶和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/  5 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是      上      主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      /         /         /    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是主造的，也是属主的；我们是主的民也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/ 3 /\2 / 2 /\1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    草     场    的     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欢呼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  /     /     /  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当称谢进入主的门，当赞美进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  /  6  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      的      院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  /     /     /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当感谢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/2/\3/3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称  颂    主  的    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欢呼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  /     /     /  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为耶和华本为善；主的慈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  /  5  /\6 / / 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存  到  永      远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      /         /         /      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的信实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/ 3 /\2 / 2 /\1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直    到     万           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欢呼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/\6/6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但愿      荣        耀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//\1/2/\3/3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归  于    父，      子，圣    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  /     /     /    \!/5/\6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起初这样，现在这样，以后     也  这    样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/\5 / 3 /\2 / 2 /\1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永        无    穷     尽。  阿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欢呼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5:48:17Z</dcterms:modified>
  <cp:revision>20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