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A94-3A84-44C6-855B-4DE148F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04B-9454-4C2E-9F61-896BF06F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95F-4275-4EA2-8CA8-B7AFD6DB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3DF-9472-45BA-A5AF-9E75B303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368-86AB-4810-8289-092E516B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0F9-DB8D-465D-8CD7-9102DF5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802-A002-4DAA-9DA9-04AF451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6F6E-47C7-4B31-9102-17B7788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8DE9-FD3D-4F76-B3D5-61C2F78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45A-2F56-409A-8E7B-48115E08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4A63-6447-47CA-B56E-9071EB6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0A9-2B57-4047-8678-A4CEEE1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079-582F-419C-A248-47FB91D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DC0C-BFCC-4BF2-8427-A0F85AD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6EEA-740E-4F33-AB38-3E5EA21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F1FF-071B-4C8A-935D-1BA6D481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0FC6-10E6-4E62-AEC8-1327C7BD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7F9-FE73-431F-95EB-12A2B801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9BA-3BFB-4F6A-95C8-75873F2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E3B-8D2F-4DFB-8340-A3B8A2E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5A3-0405-45D7-BD86-080E6A2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F1C-E1C4-4B62-A3D0-C54A820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70D-9BC4-4A31-9FA9-4782188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DBC-70B6-4AB9-B569-D3F9B65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8954-F07E-4426-B415-0216A4389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FB6-56B0-467C-902F-286A2C7861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/   /   /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主以色列的上帝是应当  称    颂     的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因主眷顾他的百姓，为他们 施  行    救        赎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在主仆人           大 卫    家     中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为我们兴起了          拯        救  的    角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 /    /    / 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正如主藉着从创世以来圣先  知    的     口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所                       说        的        话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拯救我们脱            离    仇     敌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和一切                恨我们的  人  的    手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 /    /    / 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像我们列祖                施    怜     悯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记念                     主  的    圣        约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救世主对我们祖宗      亚 伯 拉     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所                    起        的        誓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 /    /    / 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叫我们既从                仇    敌     手 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被                       救        出        来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就可以终身      在    主    面     前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坦然无惧的，用圣洁    公  义    事  奉    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 /    /    / 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孩子啊，你要称为至高者的  先           知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因为你要行在主的前面，   预  备    主的道    路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叫主的百姓因          罪    得     赦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就                    知  道    救        恩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   /    /    /    \3 / 6 /\5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因我们上帝怜悯的          心           肠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 /    /    /   \!/7/\6/6/\5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叫清晨的日光      从     高  天    临  到    我们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5   /   /   /   \4 / 3 /\6 / / /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要照亮坐在黑暗中死    荫    里     人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6   /   /   /   \6/4/\3/2/\1///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把我们的脚            引  到    平  安的  路上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撒迦利亚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6:05:13Z</dcterms:modified>
  <cp:revision>20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