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551-9635-4CBC-9DBF-5C65EFA1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096-9FF8-4C02-B135-6B3B4782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65-35E2-4F72-98AD-05783DF7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AC2-7F30-489A-8882-7A3459F4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563-CDF3-4035-9BA4-FA837F6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4F1-9748-4A1F-A6E2-4F0EBB8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EE7-DDD4-4258-9439-CF6452BE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767-878B-4823-B4E6-F098E7B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34F-5A86-401F-BB7B-BF93CE8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661-B9C3-4C22-B3F6-C11DD18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5DC-51C4-450E-8515-0BF524F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33C-7257-4A70-8580-04821BE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33A87-F3DF-4778-885C-ED17AF15EB21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01:30Z</dcterms:created>
  <dc:creator>Ing Ming Loh</dc:creator>
  <dc:description/>
  <dc:language>en-US</dc:language>
  <cp:lastModifiedBy>Ing Ming Loh</cp:lastModifiedBy>
  <dcterms:modified xsi:type="dcterms:W3CDTF">2018-10-19T07:01:56Z</dcterms:modified>
  <cp:revision>1</cp:revision>
  <dc:subject/>
  <dc:title>PowerPoint Presentation</dc:title>
</cp:coreProperties>
</file>