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4B8-E745-4B31-876D-D4673A2D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E98-0B53-4B77-B7FE-2886E28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C22-9C63-494C-A760-3BE284D5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612-8FA6-475A-9878-2CBA7A0A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D35-769A-4F4A-8000-07857CC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9F5-E75B-44D6-8AC6-54B7103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A69-1CA8-4CE7-A224-B8BF7F9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7F9-1CDA-4BEC-80DA-688A8D4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B9D-41AB-4736-A61E-7B94EE3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8C6-0C4A-463D-879C-15DE3C5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53C-98E9-4552-8932-5485FEB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062-634A-4249-8006-4C0977D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2A959-8775-4665-BA49-FF0F36117DF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03:27Z</dcterms:created>
  <dc:creator>Ing Ming Loh</dc:creator>
  <dc:description/>
  <dc:language>en-US</dc:language>
  <cp:lastModifiedBy>Ing Ming Loh</cp:lastModifiedBy>
  <dcterms:modified xsi:type="dcterms:W3CDTF">2018-10-19T07:03:54Z</dcterms:modified>
  <cp:revision>1</cp:revision>
  <dc:subject/>
  <dc:title>PowerPoint Presentation</dc:title>
</cp:coreProperties>
</file>