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03A-5EEA-4878-9A16-4A2A1380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CD3-B90F-4142-ABF7-33A0502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521-2C5B-41A9-9468-0635AD97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D44-8211-4877-83EC-6363A8A1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9F6-2386-4B27-A7DE-8836270B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EE7-9F48-455E-A78B-42360265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FFB-910B-4CBC-9D5C-53377D64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25E-A3D5-4802-81CD-017C8FB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38C-2651-4E52-AC10-EC03CC01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3CD-C7F1-428B-A376-7454F17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19D-BD78-4758-8D38-8CD3B3BE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EC1-CF45-48F6-BB60-7E38DEC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06EDA-CC10-47E8-AF92-E12AA9ECDA2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23:26Z</dcterms:created>
  <dc:creator>Ing Ming Loh</dc:creator>
  <dc:description/>
  <dc:language>en-US</dc:language>
  <cp:lastModifiedBy>Ing Ming Loh</cp:lastModifiedBy>
  <dcterms:modified xsi:type="dcterms:W3CDTF">2018-10-19T07:23:48Z</dcterms:modified>
  <cp:revision>1</cp:revision>
  <dc:subject/>
  <dc:title>PowerPoint Presentation</dc:title>
</cp:coreProperties>
</file>