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69A0-16DD-4029-A252-61CB04C7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2407-4E4B-453D-A385-510DC718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9DC-8DCE-4764-8179-2E890627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005-0C7B-4ADF-8976-93451375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ED4-46A3-4329-8E16-4A10FCB7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94AA-BCD6-44EA-B143-7581F005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F34-C008-4B5B-B075-4E180E4A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214E-EB3A-4CA5-A6E3-EF5D8AE7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2F8-03FD-430D-93B1-49BE5AAE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651-F45B-46DA-B6C1-F706984F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C04-B059-4ABD-933B-71576067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7F6-E971-4E32-B156-3E93F6E0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0DF4F-C1C2-4335-BAA9-D8061F73D5AB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9T07:24:46Z</dcterms:created>
  <dc:creator>Ing Ming Loh</dc:creator>
  <dc:description/>
  <dc:language>en-US</dc:language>
  <cp:lastModifiedBy>Ing Ming Loh</cp:lastModifiedBy>
  <dcterms:modified xsi:type="dcterms:W3CDTF">2018-10-19T07:25:07Z</dcterms:modified>
  <cp:revision>1</cp:revision>
  <dc:subject/>
  <dc:title>PowerPoint Presentation</dc:title>
</cp:coreProperties>
</file>