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5BE-6EA8-4E69-A36C-469D0D9C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D2D-EC6B-4D54-9537-B29BCEFE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713-4103-427A-AEC2-045E508D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326-1B28-42CA-837F-730C6994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E6D-4FAD-439D-8FA8-7F92D28B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8AF-DE7C-4E0D-BFB7-C347C7C3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2FC-7406-494B-A97C-1B1EEA9C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1B5-F1D6-4C99-90D5-C1DD5A8D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DAB-6DE0-4CAD-BC68-DBF09439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4C9-6FA1-4513-A7BB-DED1F6CF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D8F-AFEA-4F22-B30C-483E6BDC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F54-9F89-44CE-96D1-BB8AC7B8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4E75B-DB67-4ED6-B192-0CA3A5A815FB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07:25:59Z</dcterms:created>
  <dc:creator>Ing Ming Loh</dc:creator>
  <dc:description/>
  <dc:language>en-US</dc:language>
  <cp:lastModifiedBy>Ing Ming Loh</cp:lastModifiedBy>
  <dcterms:modified xsi:type="dcterms:W3CDTF">2018-10-19T07:26:20Z</dcterms:modified>
  <cp:revision>1</cp:revision>
  <dc:subject/>
  <dc:title>PowerPoint Presentation</dc:title>
</cp:coreProperties>
</file>