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1EA-E135-4EE0-9717-B247182A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F71-0487-4065-987F-17BD9C9C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8CC-02FE-4917-9D7D-F2816C3F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84C-24DF-441B-AFC6-16F48EF4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9A2-18C6-4EB0-B348-771F6D8F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F88-1244-4C81-9CD3-FE574423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8DFF-6C86-43F1-9F4E-1E2DC37C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7B72-D28D-4C77-B815-6E3AA9D9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6F01-F045-47B7-A1B0-0C3AB638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855-58CB-493C-A8A5-FDF258E5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D317-0635-4C19-B853-9B77ABB1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077-FC0C-4676-BABF-EBDFEF50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32834-CC26-468D-B1C2-C73B6378316A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103320"/>
            <a:ext cx="9144000" cy="67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9T07:51:04Z</dcterms:created>
  <dc:creator>Ing Ming Loh</dc:creator>
  <dc:description/>
  <dc:language>en-US</dc:language>
  <cp:lastModifiedBy>Ing Ming Loh</cp:lastModifiedBy>
  <dcterms:modified xsi:type="dcterms:W3CDTF">2018-10-19T07:51:49Z</dcterms:modified>
  <cp:revision>1</cp:revision>
  <dc:subject/>
  <dc:title>PowerPoint Presentation</dc:title>
</cp:coreProperties>
</file>