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DC9-7513-4BC2-B10C-20FD2EE1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4B0-3B03-4CBD-B940-6BFA2865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81B-0E56-483D-AB92-2A184890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EF2-66DC-4D1F-98CB-BF30FF32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2E7-51A7-4AD3-8EDE-5C84DD4A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BC1-20B7-45A9-A980-DBCA7D10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3E3-8A14-4308-A67A-7F303BD7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B6B-2518-4696-99CB-9EB4B908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1A8-B0DA-4C3A-ADFA-0840B538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5D8-AB1E-4A88-867F-3F4E2976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830-B881-4C80-850F-540CA555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C14-7A45-4443-8172-D0B2E718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E24B-2A38-4249-BBA5-1BB1E0EB7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675 copy.jpg"/>
          <p:cNvPicPr/>
          <p:nvPr/>
        </p:nvPicPr>
        <p:blipFill>
          <a:blip r:embed="rId1"/>
          <a:stretch/>
        </p:blipFill>
        <p:spPr>
          <a:xfrm>
            <a:off x="1160640" y="35712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6:34:35Z</dcterms:created>
  <dc:creator>celester</dc:creator>
  <dc:description/>
  <dc:language>en-US</dc:language>
  <cp:lastModifiedBy>Ing Ming Loh</cp:lastModifiedBy>
  <dcterms:modified xsi:type="dcterms:W3CDTF">2018-10-19T07:53:47Z</dcterms:modified>
  <cp:revision>1</cp:revision>
  <dc:subject/>
  <dc:title>PowerPoint Presentation</dc:title>
</cp:coreProperties>
</file>