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B42-CFCE-4E3D-9452-D186EBF6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B84-E3A7-4C3D-831C-36A68A0F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5BA-52DE-4676-8C69-CFE1EE60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5D1-F01D-4882-9A7B-27C6C44C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E99-F7B9-49F2-890D-84878FA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906-9D58-4B91-942A-A296B7B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D5C-0A2E-4D06-9E3E-C4A089F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2C9-EC20-4BD2-9BD8-0F81F08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4B4-5D72-4B10-AC81-509DE091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A66-411D-4854-ACCC-2DAB935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E8A-370A-42B6-B103-E43DE82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12C-7923-4921-A678-6DBDEBD1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663C0-8AF3-456F-A6FB-1E12895368B8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59:05Z</dcterms:created>
  <dc:creator>Ing Ming Loh</dc:creator>
  <dc:description/>
  <dc:language>en-US</dc:language>
  <cp:lastModifiedBy>Ing Ming Loh</cp:lastModifiedBy>
  <dcterms:modified xsi:type="dcterms:W3CDTF">2018-10-19T07:59:28Z</dcterms:modified>
  <cp:revision>1</cp:revision>
  <dc:subject/>
  <dc:title>PowerPoint Presentation</dc:title>
</cp:coreProperties>
</file>