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833-142D-4DFE-932A-449545DC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648-A9C4-4573-8BCD-0FD3447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EA5-6804-4F69-95B1-FDBB5BC9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FC4-C30A-4A0F-871A-2CB572D8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109-561E-4767-9609-10CE1A7B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3A0-956A-4F61-BB3B-3A5AB358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EE9-06BC-43EE-B4F3-59045FF9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D33-8E58-4677-AA10-8B305378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874-F187-463C-B0B8-C3D9A823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447-EF92-4383-9563-F597FB8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88F-E86D-496A-B120-EC5E851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CEB-D3B1-4A09-8A12-CAC97C1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B51B3-4EFE-4558-947F-92C450D86F4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8:01:06Z</dcterms:created>
  <dc:creator>Ing Ming Loh</dc:creator>
  <dc:description/>
  <dc:language>en-US</dc:language>
  <cp:lastModifiedBy>Ing Ming Loh</cp:lastModifiedBy>
  <dcterms:modified xsi:type="dcterms:W3CDTF">2018-10-19T08:01:22Z</dcterms:modified>
  <cp:revision>1</cp:revision>
  <dc:subject/>
  <dc:title>PowerPoint Presentation</dc:title>
</cp:coreProperties>
</file>